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6E9E-BC09-4C2A-A569-23785BBD4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B9A3-DE0F-4737-B975-898CC1406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4DE5-EADA-47DD-80C8-2071A3583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548-357A-4943-95E0-B9D6517E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F4C-5779-46E0-A2D0-628D3114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BB9-B6EB-49D6-B4A3-D19E4BA1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3AA-E5FA-4FC7-8BD3-F42DE9B0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F9C-294E-413F-BEED-86330D15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8DE-C02A-4176-B841-D3B7662B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4B1-D23B-4020-8E26-580C667C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6882-5A44-49AB-B5B5-BC9A98D6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AE9-2B22-43C8-8DD5-521FAA69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36C6-EFED-48FD-B331-6D49131A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7738-EA05-4D6B-903A-AA3363FC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53F-1810-4F0D-A62D-D9D098A7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3F60-9268-4C2E-91AB-CBE9F2011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Switches - Industrial Ethernet 3x00 Rug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105-8T2C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189240" y="1336680"/>
            <a:ext cx="27655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200-8P2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200-8P2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200-8T2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200-8T2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P2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P2S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P2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T2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T2S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T2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T2X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T2X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U2X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558880" y="885960"/>
            <a:ext cx="40262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300-8U2X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8880" y="885960"/>
            <a:ext cx="40262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400-8P2S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8880" y="885960"/>
            <a:ext cx="40262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400-8P2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2558880" y="885960"/>
            <a:ext cx="40262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400-8T2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400-8T2S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400-8T2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100-18T2C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603520" y="1336680"/>
            <a:ext cx="39369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300-14T2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300-16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300-16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300-4MU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300-6T2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3368520" y="885960"/>
            <a:ext cx="24069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300-8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3368520" y="885960"/>
            <a:ext cx="24069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300-8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3368520" y="885960"/>
            <a:ext cx="24069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300-8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3368520" y="885960"/>
            <a:ext cx="24069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400-8P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368520" y="885960"/>
            <a:ext cx="24069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400-8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2919240" y="885960"/>
            <a:ext cx="33055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100-4P2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3390840" y="1336680"/>
            <a:ext cx="23623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M-3400-8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3368520" y="885960"/>
            <a:ext cx="24069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100-4T2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390840" y="1336680"/>
            <a:ext cx="23623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100-8P2C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189240" y="1336680"/>
            <a:ext cx="27655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100-8T2C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189240" y="1336680"/>
            <a:ext cx="27655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100-8T4S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189240" y="1336680"/>
            <a:ext cx="27655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E-3105-18T2C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603520" y="1336680"/>
            <a:ext cx="39369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Gary Klapel</cp:lastModifiedBy>
  <dcterms:modified xsi:type="dcterms:W3CDTF">2024-10-18T00:21:48Z</dcterms:modified>
  <cp:revision>5</cp:revision>
  <dc:subject/>
  <dc:title>Slide 1</dc:title>
</cp:coreProperties>
</file>